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B272-3C6A-45AF-A881-318D2B21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6CC6-49E1-4A32-837B-2D6C2805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CE41-E85A-4716-90DD-501FBA90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4D24-B541-4C14-A0E1-CC9AB85D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3691-F0E0-4871-A294-499DCC48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E5BB-BE6D-4E03-95F4-4323336C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20AA-D0EB-4EC2-9B45-41215B37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B16C-494E-4384-A119-70FD19DB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BAEC-0DDB-42AB-A496-A56581F4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4210-57E3-456B-AB7D-AF67154E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8FD-913D-4352-8E5A-44AB73B0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2975-D990-4C6C-BD8F-5FFB5DA2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EB43-EB8C-474E-B339-FA86534B08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9720" y="2362320"/>
            <a:ext cx="462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dds 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trodu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467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239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705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499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9T17:31:00Z</dcterms:modified>
  <cp:revision>205</cp:revision>
  <dc:subject/>
  <dc:title>Slide 1</dc:title>
</cp:coreProperties>
</file>